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6BF-2043-485B-A701-6D19648C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7CA-9418-4B29-891F-DD929DD7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87C-02AF-4083-A782-1727DC47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B75-22EE-4B6A-B1F3-DAECEB77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3611-8BED-43F4-B9F0-7C23EC63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86B2-2D64-456E-8098-A6EF4938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16CE-B9C2-42EF-928D-7A2C2280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E634-2114-4DC1-B3DF-E4899AEC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FB9B-8F7F-43F4-BE9C-BE93AF22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57D9-C00D-4235-92CF-ED6BC7C5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5050-32C2-41B5-B2F0-AE5A5193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0D0-941B-473B-87F9-B456A73B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2465-13E5-405B-A9D8-54E23DF7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B1F1-0008-4175-AFDC-F085C397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5C5B-E2FA-4EF1-8323-69456CF7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D5F-12D1-4F9B-A757-69883953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74C0-ABB0-46A2-ADFA-B091D8CC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B2D-0AA4-415F-BC62-31AB2034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6FC-3125-4127-B824-22FB38FF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CC5-9D76-4EC9-9E89-A0F15DD7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D05-A52B-45A8-8D0F-C68C3D63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EEA-AF58-4CFE-846E-73D290E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A4D-703C-4233-BB18-FD5B127F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AEA-D12F-466C-9888-440BB8E9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F24C-3D18-4254-964F-3603C9A65A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4998-95A3-4E9D-B7BD-487D469F18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133720"/>
            <a:ext cx="7429680" cy="4295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5400" spc="-1" strike="noStrike">
                <a:solidFill>
                  <a:srgbClr val="000099"/>
                </a:solidFill>
                <a:latin typeface="Comic Sans MS"/>
              </a:rPr>
              <a:t>Т</a:t>
            </a:r>
            <a:r>
              <a:rPr b="0" lang="ru-RU" sz="5400" spc="-1" strike="noStrike">
                <a:solidFill>
                  <a:srgbClr val="000099"/>
                </a:solidFill>
                <a:latin typeface="Comic Sans MS"/>
              </a:rPr>
              <a:t>ригонометрические функции</a:t>
            </a:r>
            <a:br>
              <a:rPr sz="54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втор проекта:   Савинов А.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уководитель:  Торопова Е.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1285920"/>
            <a:ext cx="6840720" cy="46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5400" spc="-1" strike="noStrike">
                <a:solidFill>
                  <a:srgbClr val="0070c0"/>
                </a:solidFill>
                <a:latin typeface="Comic Sans MS"/>
              </a:rPr>
              <a:t>Проблемный вопрос: </a:t>
            </a:r>
            <a:br>
              <a:rPr sz="5400"/>
            </a:br>
            <a:br>
              <a:rPr sz="5400"/>
            </a:br>
            <a:r>
              <a:rPr b="0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 правильно строить графики тригонометрических и обратных функций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ыяснить как строить строится график функции С</a:t>
            </a:r>
            <a:r>
              <a:rPr b="0" lang="en-US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s(f(x))=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1000080" y="428760"/>
            <a:ext cx="75726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Ход работ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что собой представляет функц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ся с областью определения и областью зна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пример построения одной из функц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учебник Алгебра 8 класс. Макарычев Ю. 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28880" y="571680"/>
            <a:ext cx="50004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ме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Y=Cos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x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2090880"/>
            <a:ext cx="6210360" cy="31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13840"/>
            <a:ext cx="687060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omic Sans MS"/>
              </a:rPr>
              <a:t>Вывод: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Чтобы построить график функции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Y=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С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os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(x))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2571840"/>
            <a:ext cx="80247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ти область определения Функ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троить 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x)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а промежутк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;П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разить график относительно прямой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тератур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ебра в таблицах. 7-11 кл.:Л.И.Звавич, А.Р.Рязановский.-М.:Дрофа 2004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. М. Гельфанд, С.М.Львовский, А. Л. Тоо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Тригонометрия. М.: МЦНМО, 2003. — 200 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2:18:38Z</dcterms:created>
  <dc:creator>илья</dc:creator>
  <dc:description/>
  <dc:language>en-US</dc:language>
  <cp:lastModifiedBy>илья</cp:lastModifiedBy>
  <dcterms:modified xsi:type="dcterms:W3CDTF">2010-05-30T13:36:20Z</dcterms:modified>
  <cp:revision>18</cp:revision>
  <dc:subject/>
  <dc:title>Методы решения тригонометрических уравнений</dc:title>
</cp:coreProperties>
</file>